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5F4-1852-4EB7-907C-F6A0FE5D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2C2-B04D-43EB-8311-B141A1D0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47C-1DBD-40EC-8F1F-C974F511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D05-A5C8-4FD3-8060-23D06860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184-1328-414C-B09E-6113629D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1C2-31A8-4606-B38D-87F3C590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5A1-F46C-42E8-9D93-3781F914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031-D1A9-4203-AD0E-931F55AC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8F0-F0EF-4717-8FF4-82B2D1A7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FC5-4F7D-4511-8374-3551CADA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E1D-8C9B-4C8D-A3AF-98831F3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388-B8D9-41DC-8664-DA109F5F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1A60-199F-411E-B5C6-9F4721621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844640"/>
            <a:ext cx="7129440" cy="143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arbon 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3789360"/>
            <a:ext cx="7143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arbon, Silicon, Germanuim, Tin, Le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Metals, Metals, and Metallo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is a Non-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 and Germanium are Metallo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and Lead are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00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located in group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are carbon di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4 electrons in the outer 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 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“carbon” comes from the Latin language carbo, coal, and, in some Romance and Silavic languages, the word carbon can either refer to an element or c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1:16:41Z</dcterms:created>
  <dc:creator>tatumadmin</dc:creator>
  <dc:description/>
  <dc:language>en-US</dc:language>
  <cp:lastModifiedBy>tatumadmin</cp:lastModifiedBy>
  <dcterms:modified xsi:type="dcterms:W3CDTF">2009-12-04T21:05:24Z</dcterms:modified>
  <cp:revision>4</cp:revision>
  <dc:subject/>
  <dc:title>Slide 1</dc:title>
</cp:coreProperties>
</file>